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C5D3-00C2-4B64-9E75-8BE12B6CA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9926-355D-459C-822E-BA4422E6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77EAB-FB85-4BF1-9E72-FBE3A08A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472A17-E7CA-4094-9567-F414E90A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643F6-3629-4687-8733-619B77B7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EAF68C-67D5-4712-B718-53A9D437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14F135-AFAC-43BA-B886-3366B477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4E96B-13B1-4C71-9AA3-BCB118B9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39C566-FD64-4CB4-8C0C-C5A5D219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F3FFDB-CCD8-4BBF-A41B-E1BF852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9EB968-C9B1-43E9-AB81-944202B047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1D31-9C1E-4F42-B94B-172BDE6E6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E1AE-792D-420C-A4A7-B5F5425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945A0-E778-41DE-BFB6-C0EA73BE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4397-8A32-4E51-B824-831B8B4F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5845-BFDA-42CD-B21E-6D91E77E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6E18-F106-430B-BC68-7A43897C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DB6A6-83CA-4659-8E5C-64A54E7F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CFBF-7F4F-47D6-AFA0-FBFC3593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0F97-683C-442C-9BBF-4071DBE5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8E5BB-DF28-454C-8026-5DA5DD9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BA2E9-F4C0-4BF0-9069-F8AC598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C1D66-6C2B-4AE6-9374-FAD4342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BF73-405D-4612-8CB5-7AB629E4D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5BCF3-4DF0-465C-986E-91B24FE29B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FE1C1-787D-4214-8E47-C5DABCF301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6C54A-B182-4124-A6A4-BF3097F9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FFDD9-B6C0-4310-BA1F-EDB112B2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0B2588-2A43-4461-A4F6-8DAD8DF9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790EA-F54E-4FBD-ADCF-26BCDEC7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9E427-DCAE-4D5E-B350-6BC5F20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1877FE-5C04-4E59-A42B-214CB84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F21E3-1D91-4603-A066-047F7ECE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020D10-1C50-4E0B-947D-794BCFF8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2D32A-D323-4507-8A41-8EA75010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59B6F4-9C33-43A4-8E71-649327B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ADB9F7-75F0-4266-8463-A43E8D1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F2417-095B-4DC6-8C57-AC0584D3A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EBDC0-7CB2-4F34-A2C4-73A4FD4A3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0C786-74C8-40D4-8164-52BCCDF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C6543-B3B2-4B1A-94D5-7E141F0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E7399-8D9C-4AE1-9A2B-B3CADE44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6B709-21AB-40FD-A48F-CD6BAF09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06A2B-ECA1-4F16-8252-90EB2738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D2DA2-6E5B-4938-A5A2-ECA389B1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C0C4B-7BD0-42D8-AB94-8F9913D8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F3118-CDF3-40A5-BF9E-59A74E2D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11AA4-1907-4E04-90DC-CB72F4D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137C9-3560-406B-BD14-4D727C78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33772-4743-48E7-9830-200EA286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4F1EB-05D2-4BA6-8DD8-9AA020A1A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827B7-03CE-4289-9AFB-3644102E5A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076CD-CA7B-4B49-BDBD-CA074DA1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21471-3AE7-401E-AFDF-5DAFD0FB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A1E63-15CB-48DE-B2C9-AC451C7B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F0555-E748-4CCD-B8EB-ADA52512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529EE-5105-4156-BB43-54B5D2BD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106A4-E56A-4AC5-BEC1-C5946D1A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0CA62-A41B-4BAD-819F-311CA28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56CBC-E8BC-422C-9929-F297CE43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0D933-6145-4D5C-923C-3120BC6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8E7A7-2F10-465C-8CD5-21B395AB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2BC18-B126-4E44-AD79-0EEA545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3B958-3C94-4205-94CF-72FAA64BC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8567F-97BD-470B-A880-63D54E4E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9A750-9774-4A29-9AA3-82147474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BAA6E-2508-4253-85A3-FF21BE5E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44091-80C2-46BC-9172-E054155A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371CD-168B-4278-82BC-0E42B93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97FB9-21BC-4662-BE59-77E2742D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442F4-71BC-4A26-8EAF-3151033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C749D-C3BE-436D-A576-FCF0719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97124-BBAA-4FD0-9392-27FE4522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E9D97-620C-4F77-9E1F-74D744D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38A89-988C-423E-BF57-BD4A4D0A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CD128-A86D-4028-A5BC-4C5018CD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A0602-3A65-4F9F-AA96-C8133B05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0F432-ABB6-4EED-BC96-924BCCA9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690D9-6FB2-4279-9A5C-BDF24AB7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CDBED-50ED-4BB4-A448-4D1FFEDA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87D62-6EA1-4EFC-B751-F322AE9E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42730-0A74-487A-A0CE-9DE042F8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C5119-8485-4D74-B847-13E10637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67DBD-D4AD-49C3-9E64-0AEA642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7C4D5-FBB1-4F59-814A-60737890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453CB-90B1-41A1-86F7-B5D0BB30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B5A5D-7DAE-4F33-B4A1-A5D462C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E0CB2-74B3-4DFB-8592-D67D6692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3E229-D232-4743-B393-9925511E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4591B-0887-4516-A4A4-C43362A8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C34F1-D9EC-4A12-9BAC-C0A3EFD8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8D74F-B1BC-4089-9BA3-02301136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060F1-7A5C-484C-BD4E-6A4E0103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67528-C287-4685-AE41-4D436476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A28E4-512D-4AC9-A402-6FB5277D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0B9A7-344E-4311-B28A-C562B725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FD223-CA28-4C46-A4A0-0B62FFE8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9BB6F-85E6-4B17-8C3C-018F3D82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0B148-299C-4C20-8DF4-FA78B765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0AA23-7AF5-420A-A89E-501CE1D6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1F142-1E05-4125-A4ED-CD256E4C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6F4B7-4A9F-4548-B80E-AFF442BE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47E82-CEE8-481A-A1E6-DAF54DA1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0C34E-24B9-4DE2-AD2C-3F0B3D6B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65B89-4CC1-4757-B958-BBE0E7E8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BA98C-287D-4CD3-BBCB-2304B09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06E35-E8F8-4C3E-93A0-BDB78AE0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60CEB-7BFA-4C93-A668-475C279B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11812-4AA8-469C-8A62-DD617E0B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29192-807C-4500-BAAA-37A98823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A9184-D238-463A-AED1-75F177ED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E83E-E1AF-47A2-9D16-74C0E1C7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B03BB-3630-4BEE-9542-6695940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50999-2FD1-4E33-99EE-FAC184E6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5B29D-2764-497C-A48B-A59E2D35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7E4AA-97D0-4A8D-ABB8-0C82005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EF84E-58DB-4E2B-A16D-2B8524BD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C3DE2-8819-405D-BB07-3E73826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FF122-9B34-4573-829D-AA97041E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5B2B6-3840-47C7-8BE6-7B8CA077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8261C-2C0D-419C-979C-A174F89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AEB9E-5AFB-47D7-8386-F8BECA5B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4A93C-1AC1-448D-9924-AB02876E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B02FC-A245-4549-8EBE-7D98E179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9B9B5-B961-40F2-97F9-C0861171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EBE87-29D3-472B-80FC-310CE144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E32DE-8C66-414F-ADAC-52101EF9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AB55E-831C-47C4-ADDD-F7A469B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014DE-F817-4C6A-A4DB-DD782F7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1D9A6-E265-4101-942C-6371BB44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0FB8C-3F55-49CE-823F-07D7BCAC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8F464-4B9E-4230-A589-7C01A353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109E1-E940-4CB3-8305-A49C78B5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05609-D417-4483-896F-4D75C29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2F806-8E03-44B6-962E-98AAF755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9AC04-2179-466A-924B-6B4BA1DC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17483-F4AE-4985-84EC-01E30C45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CF847-2FF5-4649-9716-DF373A53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FC9A2-9F3B-44E4-9D26-9716B71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7947D-2CFF-40AB-B6D7-4C8CA3B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0A744-8AE7-4F32-A915-41F04B7A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CA97D-BE8C-4733-A73F-662BBB3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D760B-194D-4C26-A386-77EE4EE6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D4A94-D522-4BB7-8039-C0A214A6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20FD0-D1E0-42A2-B1A0-B5668919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EB70B-82EF-4102-BF93-EA1B25E3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5CEF2-AA27-429A-B3E1-4A76C6DE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67BAC-0EAB-4C4C-BC7C-91CCD31B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460C9-8BB9-47EC-BC19-D7253E5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B4444-415B-45DD-9880-AD8D524B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D6EC4-4126-4CAA-9899-3DFA16FB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FA500-D4F9-467E-8ED6-470FD7C1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120C5-711B-455E-A350-39D5590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87217-857F-462B-92BC-EEDC93C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46E0A-2D75-4036-888C-7687767A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DEE95-1FBD-47AA-97D0-D9CEFB66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F33C1-A30E-4D01-84EB-2730418E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5CBC4-F73F-48F1-9AA6-41B8CC3A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07463-966D-4BC9-A255-C380EFA5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FC768-AB2F-438F-8096-8037CB14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1FA25-25FB-4A25-BCB7-D7994CE6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78A9C-5D71-4D2F-AEDB-8CA7E91D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F9757-C167-43F7-B970-C0EC23E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E0FFF-DFF3-4D97-95E2-A14D01D3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23D64-E090-48FB-B4A1-750A1FD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47B7F-99B2-4A99-BE8D-9EAF1A68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1C2DC-AFB3-4118-8805-D611209B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DFBC7-51F6-443F-9957-BE2C1077B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56B02-08EA-4E52-93CD-3F5B05C7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3789D-5C15-46F8-96F2-9433BEF7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18E8D-FB17-4840-A677-7B87A364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F25F0-FE1C-4B25-93E6-C395F719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CD41E2-62FD-4E5D-9CEB-3EB9DCAE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7F7C8-6006-47B9-B02C-85355A65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4904D-68B4-460C-A1BF-76EEC66F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7B64B-9157-4E53-816A-C8B5F12C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FC0B6-044D-4D89-B985-A8BAD477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606807-3419-4EDB-9091-10AB646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70B0F-FA8A-4675-8B8E-C1211F40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24889-F263-4CE8-B0B8-F43D9C0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4B77FA-5E23-4D3E-9B1B-56FFD47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9427B-4AD4-4ECC-9B23-BA8800DE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DC8C9-77C9-49ED-98F5-F4F90EC7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BB95E-C573-4212-9AAC-BE40986E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A4A61-FC3B-43CF-B1B5-C3BF57BF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C05F5-F5D0-4C55-BD42-F11876E8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5855E-CA6F-4420-B25E-635F9A92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E73F9-7756-4BDB-AB77-D45798AF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2F7A5-0357-4DCF-99B5-F1122A91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B967D-6EE2-4959-8FB6-59998AA0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49003-AC56-4B90-A5F1-2727144A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DE53A-10CF-4866-97E6-9963A824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607E7-A32F-48D8-8001-992207A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15BEA-FFAE-4BA6-8DCD-D5BF58D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42129-F565-4402-81FA-24EF5EF5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F849B-F343-42E2-B7D5-0C1E95C3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28A42-F3B6-4633-A1A1-63BDF50A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D95ED-89CA-4C89-919F-E4887F29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6BA04-3998-4818-87BD-52579279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27F9A-DA78-426C-ACF5-307DCE9E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02CEF-E499-4077-9001-230E98D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A7B29-8E3E-4C7B-973D-C8BB65E0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E5F66-08E5-44A8-A16B-5BDCD928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9B4A2-E719-4B30-87E3-17902B2B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8422C9-D14E-4152-8B37-CBC6693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358E03-6490-42F6-A4BE-3A0F626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099CB-69B0-4E87-8A6C-17B756D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AF25C-8FB5-4201-BE8B-9F790298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0C553-2AA8-4F2F-A035-0C3C5F1B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44292-3A1A-4175-AAF5-44B72191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A2F23-13A5-4C64-8E1D-377AD0D7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6397-C619-4627-8804-C0F52379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14006-A2C7-4AF8-88CD-75BEC23B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2BCC3-5A51-4837-95C4-635ED30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AC9C4C-2BB4-4053-809F-F3127076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93FFA-7B90-4784-9D69-31F45B22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660FB-CBDE-4DB5-ACB6-F6A99A20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A1E10-5E7F-4E79-99CA-229A1F3E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A1059-56FB-4296-827C-43B2994270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4C70-BADA-4CC8-8136-1196E686C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A8F9-E1EB-4483-A84B-B93ADE07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9451-8AD9-4059-94B7-DB26F308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1A31-9AFB-42DD-A6C7-546798E0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DF7C-A1BF-4484-BFBF-0B8CDE32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2799-E384-4E13-B956-243629EF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478B-9BAC-444F-BA49-983A8B11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43A4-8DEC-4A65-891F-44C06F47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3A76-09C5-40F4-8800-CB2BC11B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7317-C263-4DB0-9284-61A3AB5E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4B77-FE95-4601-862B-9281240B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EC03-5BDA-4D1F-B0BE-FDFB4210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57C9-C2B0-4F63-9AFC-F8B04C641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0E83B-A157-491C-AAA8-9AEC7CEA3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9132-FF28-42AD-8AD8-C006AC20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380FF-8E43-408A-BA0A-3A708C3B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18F64-6C16-4AFF-B76F-55A1E59D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53B1A-6CCB-43B2-96E4-C60D5E55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9B1B3-D1C5-4B8D-89C8-4F179B07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63EC4-2BB2-4900-B763-1F0F09C2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37506-87D2-4E9F-9E44-4E2DA50C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60BE8-507B-4817-8DD0-3331B512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09B6F-84E6-4349-A137-C6453015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D64E6-42DC-409D-808B-E07B7437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3282A-9411-4052-9452-FA41215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7A5B-DA86-45D4-93B0-8FE2837D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A8E77-4C4D-4C63-AA13-85C44402DF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1C941-E67C-4230-ACA1-124D89D20C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35FC7-0CB6-4516-AC27-7E15153A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50851B-50B6-41A8-B11F-860AA2FF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6DFDB-F759-47CE-BE11-5E05118C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A35988-D826-4FD7-B7F2-4514E0E5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EF1000-19B9-42F0-9252-6D005F19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F3F35E-082D-4836-BAFD-6C053D3F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11FA76-E9C1-46A6-89EC-DF18962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70A48-B4A4-4C66-B6B2-49A13A1C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E31A-882F-47B5-9D41-00732182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9B3664-E638-47B6-9C73-BAF0303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95E57E-C719-4BB1-B108-71E55B8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10D02-1C22-496F-BBB7-8F7F0DE5E7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A89F-1392-4945-A556-E0B4860D4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A3E4E-EF10-49EE-A461-72E0B346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C87CB-D07C-4C91-9A0A-E134257F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9DEE-5319-4CE3-A1C2-782F5E28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0E31-344A-4BC4-9BE9-1C4C42AC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09DCA-10CC-427A-B3E8-BC9C796A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A5E12-5BF3-4182-8D2D-0B945F04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0579-8ABF-4822-AE07-428E6D68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ADFE-0102-43FB-A963-B6D8379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739F-224D-4740-98C7-C0357FC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5A215-AC7F-4B1E-9E55-2886866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01D4-2C5C-4826-8580-EE335EB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0ACA-9A3D-45E1-A5DD-C54EC7E4E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8FC5A-024C-43AA-9F0E-17C84A7A6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0F943-C0AB-4D36-8A18-217D5CC1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A3B71-FCA9-4325-BE05-4B037D7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6408E-14AE-46D4-B700-2970BF22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3E46F-F72C-4A11-A5B2-C2B602EE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7EEF-9204-4214-A0DF-A4C7F4AA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A7A31-DD3E-4BD5-AEC0-BE29BD7C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D49F1-29FD-469E-81DD-E5D31C9B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AA8B4-5412-4C7D-8C85-5C7768C2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45440-55E9-49B0-9542-30B177F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36ED3-055A-406A-A355-C21B4C7F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5AAEA-9E3B-48A7-8AC3-A06104A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AF131-8818-4336-BC3A-B43DB08DF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F8B2E-3407-423F-8378-12F5B7D23F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EA7DAF-B7ED-4648-91BC-17B23002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0BBEF6-CFD7-4D60-B735-57563AF7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34C6-4146-4D82-8CEA-65910A1B33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5ADC-36AC-4986-B1D3-03FA013A61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77B-CA2E-4877-BDC2-79536ECC44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3D9-805C-4F13-9F9A-541D211BFA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DDA9-3438-4946-A27A-4DEBDEBE9A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DBD1-915B-4178-8104-2E319A6A08C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BDFF-5EB6-4CFC-951C-675D3142AD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5AD9-3119-461E-870F-F643F2492A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95D0-2A41-446C-87A2-8C48CBF476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2383-28BA-470E-B7CE-B5FC37A12B3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43F1-879F-4744-9BC4-C12765EFE4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340C-9726-4496-8F49-AC2C4D5A1A5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22A4-93F7-4582-8616-5A93B496A5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BD3C-F5E7-4E5A-B5FB-7B16F2BCB2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D900-CF28-4AB4-9344-BB10EE2136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F721-9191-4D35-855F-97A6C068013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251-AB5B-41DB-A1F1-13B8639436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AE6-AC7C-4805-9722-72177CDBDA4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5526-6789-4BCB-A2BB-EEC5FB05C1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2010-D23F-42D7-B82D-BD228969BB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1DD1-EEAC-4BBE-9986-7C97613D3D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B6A7-890D-46C9-84F8-A57B6A94D4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4D6-6660-407F-9812-CD117536F5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D4EA-3FA9-4CE0-ABF8-92BB00BAA7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矩形 6" descr=""/>
          <p:cNvPicPr/>
          <p:nvPr/>
        </p:nvPicPr>
        <p:blipFill>
          <a:blip r:embed="rId1"/>
          <a:stretch/>
        </p:blipFill>
        <p:spPr>
          <a:xfrm>
            <a:off x="2271600" y="2414520"/>
            <a:ext cx="5170680" cy="1314360"/>
          </a:xfrm>
          <a:prstGeom prst="rect">
            <a:avLst/>
          </a:prstGeom>
          <a:ln w="0">
            <a:noFill/>
          </a:ln>
        </p:spPr>
      </p:pic>
      <p:sp>
        <p:nvSpPr>
          <p:cNvPr id="987" name="矩形 7"/>
          <p:cNvSpPr/>
          <p:nvPr/>
        </p:nvSpPr>
        <p:spPr>
          <a:xfrm>
            <a:off x="3016440" y="500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人教版一年级上册第九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4"/>
          <p:cNvSpPr/>
          <p:nvPr/>
        </p:nvSpPr>
        <p:spPr>
          <a:xfrm>
            <a:off x="797400" y="1857240"/>
            <a:ext cx="635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Group 25"/>
          <p:cNvGrpSpPr/>
          <p:nvPr/>
        </p:nvGrpSpPr>
        <p:grpSpPr>
          <a:xfrm>
            <a:off x="785880" y="714240"/>
            <a:ext cx="3217680" cy="958680"/>
            <a:chOff x="785880" y="714240"/>
            <a:chExt cx="3217680" cy="958680"/>
          </a:xfrm>
        </p:grpSpPr>
        <p:pic>
          <p:nvPicPr>
            <p:cNvPr id="1135" name="Picture 26" descr="虫子-01"/>
            <p:cNvPicPr/>
            <p:nvPr/>
          </p:nvPicPr>
          <p:blipFill>
            <a:blip r:embed="rId1"/>
            <a:stretch/>
          </p:blipFill>
          <p:spPr>
            <a:xfrm>
              <a:off x="785880" y="71424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Rectangle 27"/>
            <p:cNvSpPr/>
            <p:nvPr/>
          </p:nvSpPr>
          <p:spPr>
            <a:xfrm>
              <a:off x="1085760" y="89532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 识 钟 表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7" name="Picture 2" descr=""/>
          <p:cNvPicPr/>
          <p:nvPr/>
        </p:nvPicPr>
        <p:blipFill>
          <a:blip r:embed="rId2"/>
          <a:stretch/>
        </p:blipFill>
        <p:spPr>
          <a:xfrm>
            <a:off x="1643040" y="1857240"/>
            <a:ext cx="2571840" cy="2530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3" descr=""/>
          <p:cNvPicPr/>
          <p:nvPr/>
        </p:nvPicPr>
        <p:blipFill>
          <a:blip r:embed="rId3"/>
          <a:stretch/>
        </p:blipFill>
        <p:spPr>
          <a:xfrm>
            <a:off x="5072040" y="1857240"/>
            <a:ext cx="2617920" cy="2540160"/>
          </a:xfrm>
          <a:prstGeom prst="rect">
            <a:avLst/>
          </a:prstGeom>
          <a:ln w="0">
            <a:noFill/>
          </a:ln>
        </p:spPr>
      </p:pic>
      <p:sp>
        <p:nvSpPr>
          <p:cNvPr id="1139" name="Rectangle 5"/>
          <p:cNvSpPr/>
          <p:nvPr/>
        </p:nvSpPr>
        <p:spPr>
          <a:xfrm>
            <a:off x="2071800" y="4429080"/>
            <a:ext cx="221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快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时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5357880" y="4500720"/>
            <a:ext cx="25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时过一点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Picture 4" descr="P-117-2"/>
          <p:cNvPicPr/>
          <p:nvPr/>
        </p:nvPicPr>
        <p:blipFill>
          <a:blip r:embed="rId1"/>
          <a:stretch/>
        </p:blipFill>
        <p:spPr>
          <a:xfrm>
            <a:off x="2195640" y="1484280"/>
            <a:ext cx="4662360" cy="364824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5"/>
          <p:cNvSpPr/>
          <p:nvPr/>
        </p:nvSpPr>
        <p:spPr>
          <a:xfrm>
            <a:off x="1072440" y="155088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6"/>
          <p:cNvGrpSpPr/>
          <p:nvPr/>
        </p:nvGrpSpPr>
        <p:grpSpPr>
          <a:xfrm>
            <a:off x="2851200" y="5038560"/>
            <a:ext cx="3276000" cy="687600"/>
            <a:chOff x="2851200" y="5038560"/>
            <a:chExt cx="3276000" cy="687600"/>
          </a:xfrm>
        </p:grpSpPr>
        <p:sp>
          <p:nvSpPr>
            <p:cNvPr id="1144" name="Rectangle 7"/>
            <p:cNvSpPr/>
            <p:nvPr/>
          </p:nvSpPr>
          <p:spPr>
            <a:xfrm>
              <a:off x="3891240" y="5038560"/>
              <a:ext cx="223596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    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     (</a:t>
              </a: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辆</a:t>
              </a: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4964040" y="5210280"/>
              <a:ext cx="550800" cy="496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2851200" y="5210280"/>
              <a:ext cx="550800" cy="496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10"/>
            <p:cNvSpPr/>
            <p:nvPr/>
          </p:nvSpPr>
          <p:spPr>
            <a:xfrm>
              <a:off x="3884760" y="5210280"/>
              <a:ext cx="550800" cy="496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Rectangle 11"/>
          <p:cNvSpPr/>
          <p:nvPr/>
        </p:nvSpPr>
        <p:spPr>
          <a:xfrm>
            <a:off x="4751280" y="5094360"/>
            <a:ext cx="858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2"/>
          <p:cNvSpPr/>
          <p:nvPr/>
        </p:nvSpPr>
        <p:spPr>
          <a:xfrm>
            <a:off x="2895840" y="5094360"/>
            <a:ext cx="41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3"/>
          <p:cNvSpPr/>
          <p:nvPr/>
        </p:nvSpPr>
        <p:spPr>
          <a:xfrm>
            <a:off x="3935880" y="5108400"/>
            <a:ext cx="41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14"/>
          <p:cNvGrpSpPr/>
          <p:nvPr/>
        </p:nvGrpSpPr>
        <p:grpSpPr>
          <a:xfrm>
            <a:off x="1042920" y="692280"/>
            <a:ext cx="3217680" cy="958680"/>
            <a:chOff x="1042920" y="692280"/>
            <a:chExt cx="3217680" cy="958680"/>
          </a:xfrm>
        </p:grpSpPr>
        <p:pic>
          <p:nvPicPr>
            <p:cNvPr id="1152" name="Picture 15" descr="虫子-01"/>
            <p:cNvPicPr/>
            <p:nvPr/>
          </p:nvPicPr>
          <p:blipFill>
            <a:blip r:embed="rId2"/>
            <a:stretch/>
          </p:blipFill>
          <p:spPr>
            <a:xfrm>
              <a:off x="1042920" y="69228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Rectangle 16"/>
            <p:cNvSpPr/>
            <p:nvPr/>
          </p:nvSpPr>
          <p:spPr>
            <a:xfrm>
              <a:off x="1342800" y="87336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用  数  学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17"/>
          <p:cNvGrpSpPr/>
          <p:nvPr/>
        </p:nvGrpSpPr>
        <p:grpSpPr>
          <a:xfrm>
            <a:off x="1187280" y="4076640"/>
            <a:ext cx="2373480" cy="687600"/>
            <a:chOff x="1187280" y="4076640"/>
            <a:chExt cx="2373480" cy="687600"/>
          </a:xfrm>
        </p:grpSpPr>
        <p:pic>
          <p:nvPicPr>
            <p:cNvPr id="1155" name="Picture 18" descr="008"/>
            <p:cNvPicPr/>
            <p:nvPr/>
          </p:nvPicPr>
          <p:blipFill>
            <a:blip r:embed="rId3"/>
            <a:stretch/>
          </p:blipFill>
          <p:spPr>
            <a:xfrm>
              <a:off x="1187280" y="4076640"/>
              <a:ext cx="237348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Rectangle 19"/>
            <p:cNvSpPr/>
            <p:nvPr/>
          </p:nvSpPr>
          <p:spPr>
            <a:xfrm>
              <a:off x="1636560" y="414972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开来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Group 20"/>
          <p:cNvGrpSpPr/>
          <p:nvPr/>
        </p:nvGrpSpPr>
        <p:grpSpPr>
          <a:xfrm>
            <a:off x="5364000" y="4076640"/>
            <a:ext cx="3136680" cy="687600"/>
            <a:chOff x="5364000" y="4076640"/>
            <a:chExt cx="3136680" cy="687600"/>
          </a:xfrm>
        </p:grpSpPr>
        <p:pic>
          <p:nvPicPr>
            <p:cNvPr id="1158" name="Picture 21" descr="008"/>
            <p:cNvPicPr/>
            <p:nvPr/>
          </p:nvPicPr>
          <p:blipFill>
            <a:blip r:embed="rId4"/>
            <a:stretch/>
          </p:blipFill>
          <p:spPr>
            <a:xfrm>
              <a:off x="5364000" y="4076640"/>
              <a:ext cx="313668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Rectangle 22"/>
            <p:cNvSpPr/>
            <p:nvPr/>
          </p:nvSpPr>
          <p:spPr>
            <a:xfrm>
              <a:off x="5714640" y="4143600"/>
              <a:ext cx="27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现在有几辆车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AutoShape 3"/>
          <p:cNvSpPr/>
          <p:nvPr/>
        </p:nvSpPr>
        <p:spPr>
          <a:xfrm>
            <a:off x="2124000" y="2295360"/>
            <a:ext cx="514440" cy="520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4"/>
          <p:cNvSpPr/>
          <p:nvPr/>
        </p:nvSpPr>
        <p:spPr>
          <a:xfrm>
            <a:off x="971640" y="2924280"/>
            <a:ext cx="411120" cy="69372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5"/>
          <p:cNvSpPr/>
          <p:nvPr/>
        </p:nvSpPr>
        <p:spPr>
          <a:xfrm>
            <a:off x="2482920" y="3230640"/>
            <a:ext cx="411120" cy="69372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6"/>
          <p:cNvSpPr/>
          <p:nvPr/>
        </p:nvSpPr>
        <p:spPr>
          <a:xfrm>
            <a:off x="3059280" y="2367000"/>
            <a:ext cx="514080" cy="52056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AutoShape 7"/>
          <p:cNvSpPr/>
          <p:nvPr/>
        </p:nvSpPr>
        <p:spPr>
          <a:xfrm>
            <a:off x="3419640" y="3375000"/>
            <a:ext cx="514080" cy="52056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8"/>
          <p:cNvSpPr/>
          <p:nvPr/>
        </p:nvSpPr>
        <p:spPr>
          <a:xfrm>
            <a:off x="4140360" y="2655720"/>
            <a:ext cx="514080" cy="520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utoShape 9"/>
          <p:cNvSpPr/>
          <p:nvPr/>
        </p:nvSpPr>
        <p:spPr>
          <a:xfrm>
            <a:off x="4282920" y="3446640"/>
            <a:ext cx="514440" cy="520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10"/>
          <p:cNvSpPr/>
          <p:nvPr/>
        </p:nvSpPr>
        <p:spPr>
          <a:xfrm rot="16200000">
            <a:off x="2779560" y="2430000"/>
            <a:ext cx="269640" cy="3597120"/>
          </a:xfrm>
          <a:custGeom>
            <a:avLst/>
            <a:gdLst>
              <a:gd name="textAreaLeft" fmla="*/ 172440 w 269640"/>
              <a:gd name="textAreaRight" fmla="*/ 270000 w 269640"/>
              <a:gd name="textAreaTop" fmla="*/ 93600 h 3597120"/>
              <a:gd name="textAreaBottom" fmla="*/ 3503520 h 359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1"/>
          <p:cNvSpPr/>
          <p:nvPr/>
        </p:nvSpPr>
        <p:spPr>
          <a:xfrm>
            <a:off x="2556000" y="4527720"/>
            <a:ext cx="13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2"/>
          <p:cNvSpPr/>
          <p:nvPr/>
        </p:nvSpPr>
        <p:spPr>
          <a:xfrm>
            <a:off x="5796000" y="1557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6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3"/>
          <p:cNvSpPr/>
          <p:nvPr/>
        </p:nvSpPr>
        <p:spPr>
          <a:xfrm>
            <a:off x="5867280" y="2427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+5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4"/>
          <p:cNvSpPr/>
          <p:nvPr/>
        </p:nvSpPr>
        <p:spPr>
          <a:xfrm>
            <a:off x="5867280" y="32194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+4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4"/>
          <p:cNvSpPr/>
          <p:nvPr/>
        </p:nvSpPr>
        <p:spPr>
          <a:xfrm>
            <a:off x="357120" y="2428920"/>
            <a:ext cx="2000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5"/>
          <p:cNvSpPr/>
          <p:nvPr/>
        </p:nvSpPr>
        <p:spPr>
          <a:xfrm>
            <a:off x="2349360" y="3608280"/>
            <a:ext cx="1774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数与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"/>
          <p:cNvSpPr/>
          <p:nvPr/>
        </p:nvSpPr>
        <p:spPr>
          <a:xfrm>
            <a:off x="2286000" y="2000160"/>
            <a:ext cx="2585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图形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2357280" y="5429160"/>
            <a:ext cx="18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钟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9"/>
          <p:cNvSpPr/>
          <p:nvPr/>
        </p:nvSpPr>
        <p:spPr>
          <a:xfrm>
            <a:off x="2000160" y="1143000"/>
            <a:ext cx="298440" cy="4714920"/>
          </a:xfrm>
          <a:custGeom>
            <a:avLst/>
            <a:gdLst>
              <a:gd name="textAreaLeft" fmla="*/ 190800 w 298440"/>
              <a:gd name="textAreaRight" fmla="*/ 298800 w 298440"/>
              <a:gd name="textAreaTop" fmla="*/ 73800 h 4714920"/>
              <a:gd name="textAreaBottom" fmla="*/ 46411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2"/>
                  <a:pt x="10800" y="1083"/>
                </a:cubicBezTo>
                <a:lnTo>
                  <a:pt x="10800" y="9717"/>
                </a:lnTo>
                <a:cubicBezTo>
                  <a:pt x="10800" y="10259"/>
                  <a:pt x="5400" y="10800"/>
                  <a:pt x="0" y="10800"/>
                </a:cubicBezTo>
                <a:cubicBezTo>
                  <a:pt x="5400" y="10800"/>
                  <a:pt x="10800" y="11342"/>
                  <a:pt x="10800" y="11883"/>
                </a:cubicBezTo>
                <a:lnTo>
                  <a:pt x="10800" y="20517"/>
                </a:lnTo>
                <a:cubicBezTo>
                  <a:pt x="10800" y="210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10"/>
          <p:cNvSpPr/>
          <p:nvPr/>
        </p:nvSpPr>
        <p:spPr>
          <a:xfrm>
            <a:off x="4000680" y="3002040"/>
            <a:ext cx="249120" cy="1927080"/>
          </a:xfrm>
          <a:custGeom>
            <a:avLst/>
            <a:gdLst>
              <a:gd name="textAreaLeft" fmla="*/ 159120 w 249120"/>
              <a:gd name="textAreaRight" fmla="*/ 249480 w 249120"/>
              <a:gd name="textAreaTop" fmla="*/ 37440 h 1927080"/>
              <a:gd name="textAreaBottom" fmla="*/ 1889640 h 192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2"/>
                  <a:pt x="10800" y="1344"/>
                </a:cubicBezTo>
                <a:lnTo>
                  <a:pt x="10800" y="9456"/>
                </a:lnTo>
                <a:cubicBezTo>
                  <a:pt x="10800" y="10128"/>
                  <a:pt x="5400" y="10800"/>
                  <a:pt x="0" y="10800"/>
                </a:cubicBezTo>
                <a:cubicBezTo>
                  <a:pt x="5400" y="10800"/>
                  <a:pt x="10800" y="11472"/>
                  <a:pt x="10800" y="12144"/>
                </a:cubicBezTo>
                <a:lnTo>
                  <a:pt x="10800" y="20256"/>
                </a:lnTo>
                <a:cubicBezTo>
                  <a:pt x="10800" y="2092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1"/>
          <p:cNvSpPr/>
          <p:nvPr/>
        </p:nvSpPr>
        <p:spPr>
          <a:xfrm>
            <a:off x="4216320" y="2714760"/>
            <a:ext cx="4000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1 ~ 5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的认识、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4235400" y="3324240"/>
            <a:ext cx="3908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6 ~ 10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的认识、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3"/>
          <p:cNvSpPr/>
          <p:nvPr/>
        </p:nvSpPr>
        <p:spPr>
          <a:xfrm>
            <a:off x="4216320" y="3976560"/>
            <a:ext cx="4000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11 ~ 20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的认识、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4"/>
          <p:cNvSpPr/>
          <p:nvPr/>
        </p:nvSpPr>
        <p:spPr>
          <a:xfrm>
            <a:off x="4243320" y="4562640"/>
            <a:ext cx="3544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20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以内进位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7"/>
          <p:cNvSpPr/>
          <p:nvPr/>
        </p:nvSpPr>
        <p:spPr>
          <a:xfrm>
            <a:off x="2338560" y="857160"/>
            <a:ext cx="1143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18"/>
          <p:cNvSpPr/>
          <p:nvPr/>
        </p:nvSpPr>
        <p:spPr>
          <a:xfrm>
            <a:off x="3214800" y="785880"/>
            <a:ext cx="285480" cy="795240"/>
          </a:xfrm>
          <a:custGeom>
            <a:avLst/>
            <a:gdLst>
              <a:gd name="textAreaLeft" fmla="*/ 182520 w 285480"/>
              <a:gd name="textAreaRight" fmla="*/ 285840 w 285480"/>
              <a:gd name="textAreaTop" fmla="*/ 22320 h 795240"/>
              <a:gd name="textAreaBottom" fmla="*/ 772920 h 79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3"/>
                  <a:pt x="10800" y="1965"/>
                </a:cubicBezTo>
                <a:lnTo>
                  <a:pt x="10800" y="8835"/>
                </a:lnTo>
                <a:cubicBezTo>
                  <a:pt x="10800" y="9818"/>
                  <a:pt x="5400" y="10800"/>
                  <a:pt x="0" y="10800"/>
                </a:cubicBezTo>
                <a:cubicBezTo>
                  <a:pt x="5400" y="10800"/>
                  <a:pt x="10800" y="11783"/>
                  <a:pt x="10800" y="12765"/>
                </a:cubicBezTo>
                <a:lnTo>
                  <a:pt x="10800" y="19635"/>
                </a:lnTo>
                <a:cubicBezTo>
                  <a:pt x="10800" y="206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9"/>
          <p:cNvSpPr/>
          <p:nvPr/>
        </p:nvSpPr>
        <p:spPr>
          <a:xfrm>
            <a:off x="3500280" y="571680"/>
            <a:ext cx="198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上下、前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3500280" y="1214280"/>
            <a:ext cx="1500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左、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18"/>
          <p:cNvSpPr/>
          <p:nvPr/>
        </p:nvSpPr>
        <p:spPr>
          <a:xfrm>
            <a:off x="4086360" y="5491080"/>
            <a:ext cx="285480" cy="795600"/>
          </a:xfrm>
          <a:custGeom>
            <a:avLst/>
            <a:gdLst>
              <a:gd name="textAreaLeft" fmla="*/ 182520 w 285480"/>
              <a:gd name="textAreaRight" fmla="*/ 285840 w 285480"/>
              <a:gd name="textAreaTop" fmla="*/ 22320 h 795600"/>
              <a:gd name="textAreaBottom" fmla="*/ 773280 h 7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3"/>
                  <a:pt x="10800" y="1965"/>
                </a:cubicBezTo>
                <a:lnTo>
                  <a:pt x="10800" y="8835"/>
                </a:lnTo>
                <a:cubicBezTo>
                  <a:pt x="10800" y="9818"/>
                  <a:pt x="5400" y="10800"/>
                  <a:pt x="0" y="10800"/>
                </a:cubicBezTo>
                <a:cubicBezTo>
                  <a:pt x="5400" y="10800"/>
                  <a:pt x="10800" y="11783"/>
                  <a:pt x="10800" y="12765"/>
                </a:cubicBezTo>
                <a:lnTo>
                  <a:pt x="10800" y="19635"/>
                </a:lnTo>
                <a:cubicBezTo>
                  <a:pt x="10800" y="206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9"/>
          <p:cNvSpPr/>
          <p:nvPr/>
        </p:nvSpPr>
        <p:spPr>
          <a:xfrm>
            <a:off x="4370400" y="5205240"/>
            <a:ext cx="198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认识钟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2"/>
          <p:cNvSpPr/>
          <p:nvPr/>
        </p:nvSpPr>
        <p:spPr>
          <a:xfrm>
            <a:off x="4367160" y="5929200"/>
            <a:ext cx="1785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认识整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6"/>
          <p:cNvSpPr/>
          <p:nvPr/>
        </p:nvSpPr>
        <p:spPr>
          <a:xfrm>
            <a:off x="6786720" y="4605480"/>
            <a:ext cx="1643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（凑十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8"/>
          <p:cNvSpPr/>
          <p:nvPr/>
        </p:nvSpPr>
        <p:spPr>
          <a:xfrm>
            <a:off x="4799160" y="1857240"/>
            <a:ext cx="285480" cy="795600"/>
          </a:xfrm>
          <a:custGeom>
            <a:avLst/>
            <a:gdLst>
              <a:gd name="textAreaLeft" fmla="*/ 182520 w 285480"/>
              <a:gd name="textAreaRight" fmla="*/ 285840 w 285480"/>
              <a:gd name="textAreaTop" fmla="*/ 22320 h 795600"/>
              <a:gd name="textAreaBottom" fmla="*/ 773280 h 7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3"/>
                  <a:pt x="10800" y="1965"/>
                </a:cubicBezTo>
                <a:lnTo>
                  <a:pt x="10800" y="8835"/>
                </a:lnTo>
                <a:cubicBezTo>
                  <a:pt x="10800" y="9818"/>
                  <a:pt x="5400" y="10800"/>
                  <a:pt x="0" y="10800"/>
                </a:cubicBezTo>
                <a:cubicBezTo>
                  <a:pt x="5400" y="10800"/>
                  <a:pt x="10800" y="11783"/>
                  <a:pt x="10800" y="12765"/>
                </a:cubicBezTo>
                <a:lnTo>
                  <a:pt x="10800" y="19635"/>
                </a:lnTo>
                <a:cubicBezTo>
                  <a:pt x="10800" y="206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9"/>
          <p:cNvSpPr/>
          <p:nvPr/>
        </p:nvSpPr>
        <p:spPr>
          <a:xfrm>
            <a:off x="5084640" y="1643040"/>
            <a:ext cx="198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立体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2"/>
          <p:cNvSpPr/>
          <p:nvPr/>
        </p:nvSpPr>
        <p:spPr>
          <a:xfrm>
            <a:off x="5084640" y="2286000"/>
            <a:ext cx="198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图形的拼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5"/>
          <p:cNvPicPr/>
          <p:nvPr/>
        </p:nvPicPr>
        <p:blipFill>
          <a:blip r:embed="rId1"/>
          <a:stretch/>
        </p:blipFill>
        <p:spPr>
          <a:xfrm>
            <a:off x="1071720" y="1285920"/>
            <a:ext cx="7429320" cy="521316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4"/>
          <p:cNvSpPr/>
          <p:nvPr/>
        </p:nvSpPr>
        <p:spPr>
          <a:xfrm>
            <a:off x="504360" y="207180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36"/>
          <p:cNvGrpSpPr/>
          <p:nvPr/>
        </p:nvGrpSpPr>
        <p:grpSpPr>
          <a:xfrm>
            <a:off x="276120" y="608040"/>
            <a:ext cx="3217680" cy="958680"/>
            <a:chOff x="276120" y="608040"/>
            <a:chExt cx="3217680" cy="958680"/>
          </a:xfrm>
        </p:grpSpPr>
        <p:pic>
          <p:nvPicPr>
            <p:cNvPr id="1012" name="Picture 37" descr="虫子-01"/>
            <p:cNvPicPr/>
            <p:nvPr/>
          </p:nvPicPr>
          <p:blipFill>
            <a:blip r:embed="rId2"/>
            <a:stretch/>
          </p:blipFill>
          <p:spPr>
            <a:xfrm>
              <a:off x="276120" y="60804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Rectangle 38"/>
            <p:cNvSpPr/>
            <p:nvPr/>
          </p:nvSpPr>
          <p:spPr>
            <a:xfrm>
              <a:off x="499680" y="789120"/>
              <a:ext cx="24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上下 、前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4"/>
          <p:cNvSpPr/>
          <p:nvPr/>
        </p:nvSpPr>
        <p:spPr>
          <a:xfrm>
            <a:off x="507600" y="207180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24" descr="p-03-1"/>
          <p:cNvPicPr/>
          <p:nvPr/>
        </p:nvPicPr>
        <p:blipFill>
          <a:blip r:embed="rId1"/>
          <a:stretch/>
        </p:blipFill>
        <p:spPr>
          <a:xfrm>
            <a:off x="1346040" y="1506600"/>
            <a:ext cx="6583680" cy="4417920"/>
          </a:xfrm>
          <a:prstGeom prst="rect">
            <a:avLst/>
          </a:prstGeom>
          <a:ln w="0">
            <a:noFill/>
          </a:ln>
        </p:spPr>
      </p:pic>
      <p:grpSp>
        <p:nvGrpSpPr>
          <p:cNvPr id="1016" name="Group 20"/>
          <p:cNvGrpSpPr/>
          <p:nvPr/>
        </p:nvGrpSpPr>
        <p:grpSpPr>
          <a:xfrm>
            <a:off x="542880" y="714240"/>
            <a:ext cx="2314800" cy="852480"/>
            <a:chOff x="542880" y="714240"/>
            <a:chExt cx="2314800" cy="852480"/>
          </a:xfrm>
        </p:grpSpPr>
        <p:pic>
          <p:nvPicPr>
            <p:cNvPr id="1017" name="Picture 21" descr="虫子-05"/>
            <p:cNvPicPr/>
            <p:nvPr/>
          </p:nvPicPr>
          <p:blipFill>
            <a:blip r:embed="rId2"/>
            <a:stretch/>
          </p:blipFill>
          <p:spPr>
            <a:xfrm>
              <a:off x="542880" y="714240"/>
              <a:ext cx="23148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Rectangle 22"/>
            <p:cNvSpPr/>
            <p:nvPr/>
          </p:nvSpPr>
          <p:spPr>
            <a:xfrm>
              <a:off x="822240" y="836280"/>
              <a:ext cx="200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左、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Group 31"/>
          <p:cNvGrpSpPr/>
          <p:nvPr/>
        </p:nvGrpSpPr>
        <p:grpSpPr>
          <a:xfrm>
            <a:off x="3643200" y="714240"/>
            <a:ext cx="1871640" cy="733680"/>
            <a:chOff x="3643200" y="714240"/>
            <a:chExt cx="1871640" cy="733680"/>
          </a:xfrm>
        </p:grpSpPr>
        <p:pic>
          <p:nvPicPr>
            <p:cNvPr id="1020" name="Picture 30" descr="007"/>
            <p:cNvPicPr/>
            <p:nvPr/>
          </p:nvPicPr>
          <p:blipFill>
            <a:blip r:embed="rId3"/>
            <a:stretch/>
          </p:blipFill>
          <p:spPr>
            <a:xfrm>
              <a:off x="3643200" y="714240"/>
              <a:ext cx="18716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Rectangle 11"/>
            <p:cNvSpPr/>
            <p:nvPr/>
          </p:nvSpPr>
          <p:spPr>
            <a:xfrm>
              <a:off x="4551120" y="7221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这是右手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44"/>
          <p:cNvGrpSpPr/>
          <p:nvPr/>
        </p:nvGrpSpPr>
        <p:grpSpPr>
          <a:xfrm>
            <a:off x="5643720" y="2071800"/>
            <a:ext cx="2846160" cy="860400"/>
            <a:chOff x="5643720" y="2071800"/>
            <a:chExt cx="2846160" cy="860400"/>
          </a:xfrm>
        </p:grpSpPr>
        <p:pic>
          <p:nvPicPr>
            <p:cNvPr id="1023" name="Picture 42" descr="007"/>
            <p:cNvPicPr/>
            <p:nvPr/>
          </p:nvPicPr>
          <p:blipFill>
            <a:blip r:embed="rId4"/>
            <a:stretch/>
          </p:blipFill>
          <p:spPr>
            <a:xfrm>
              <a:off x="5643720" y="2071800"/>
              <a:ext cx="2846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Rectangle 43"/>
            <p:cNvSpPr/>
            <p:nvPr/>
          </p:nvSpPr>
          <p:spPr>
            <a:xfrm>
              <a:off x="5716800" y="2154240"/>
              <a:ext cx="276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另一只手是左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4"/>
          <p:cNvSpPr/>
          <p:nvPr/>
        </p:nvSpPr>
        <p:spPr>
          <a:xfrm>
            <a:off x="578880" y="228600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700200" y="3141720"/>
            <a:ext cx="7975080" cy="647640"/>
            <a:chOff x="700200" y="3141720"/>
            <a:chExt cx="7975080" cy="647640"/>
          </a:xfrm>
        </p:grpSpPr>
        <p:sp>
          <p:nvSpPr>
            <p:cNvPr id="1027" name="Rectangle 6"/>
            <p:cNvSpPr/>
            <p:nvPr/>
          </p:nvSpPr>
          <p:spPr>
            <a:xfrm>
              <a:off x="700200" y="3141720"/>
              <a:ext cx="7975080" cy="6476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7"/>
            <p:cNvGrpSpPr/>
            <p:nvPr/>
          </p:nvGrpSpPr>
          <p:grpSpPr>
            <a:xfrm>
              <a:off x="1269000" y="3141720"/>
              <a:ext cx="6833880" cy="647640"/>
              <a:chOff x="1269000" y="3141720"/>
              <a:chExt cx="6833880" cy="647640"/>
            </a:xfrm>
          </p:grpSpPr>
          <p:sp>
            <p:nvSpPr>
              <p:cNvPr id="1029" name="Line 8"/>
              <p:cNvSpPr/>
              <p:nvPr/>
            </p:nvSpPr>
            <p:spPr>
              <a:xfrm>
                <a:off x="126900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9"/>
              <p:cNvSpPr/>
              <p:nvPr/>
            </p:nvSpPr>
            <p:spPr>
              <a:xfrm>
                <a:off x="240840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0"/>
              <p:cNvSpPr/>
              <p:nvPr/>
            </p:nvSpPr>
            <p:spPr>
              <a:xfrm>
                <a:off x="525456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1"/>
              <p:cNvSpPr/>
              <p:nvPr/>
            </p:nvSpPr>
            <p:spPr>
              <a:xfrm>
                <a:off x="183744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2"/>
              <p:cNvSpPr/>
              <p:nvPr/>
            </p:nvSpPr>
            <p:spPr>
              <a:xfrm>
                <a:off x="297720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3"/>
              <p:cNvSpPr/>
              <p:nvPr/>
            </p:nvSpPr>
            <p:spPr>
              <a:xfrm>
                <a:off x="354600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14"/>
              <p:cNvSpPr/>
              <p:nvPr/>
            </p:nvSpPr>
            <p:spPr>
              <a:xfrm>
                <a:off x="411696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5"/>
              <p:cNvSpPr/>
              <p:nvPr/>
            </p:nvSpPr>
            <p:spPr>
              <a:xfrm>
                <a:off x="468576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6"/>
              <p:cNvSpPr/>
              <p:nvPr/>
            </p:nvSpPr>
            <p:spPr>
              <a:xfrm>
                <a:off x="582552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7"/>
              <p:cNvSpPr/>
              <p:nvPr/>
            </p:nvSpPr>
            <p:spPr>
              <a:xfrm>
                <a:off x="639432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8"/>
              <p:cNvSpPr/>
              <p:nvPr/>
            </p:nvSpPr>
            <p:spPr>
              <a:xfrm>
                <a:off x="696312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9"/>
              <p:cNvSpPr/>
              <p:nvPr/>
            </p:nvSpPr>
            <p:spPr>
              <a:xfrm>
                <a:off x="753408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20"/>
              <p:cNvSpPr/>
              <p:nvPr/>
            </p:nvSpPr>
            <p:spPr>
              <a:xfrm>
                <a:off x="810288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2" name="Group 21"/>
          <p:cNvGrpSpPr/>
          <p:nvPr/>
        </p:nvGrpSpPr>
        <p:grpSpPr>
          <a:xfrm>
            <a:off x="1245960" y="3195720"/>
            <a:ext cx="6874560" cy="1007640"/>
            <a:chOff x="1245960" y="3195720"/>
            <a:chExt cx="6874560" cy="1007640"/>
          </a:xfrm>
        </p:grpSpPr>
        <p:sp>
          <p:nvSpPr>
            <p:cNvPr id="1043" name="Rectangle 22"/>
            <p:cNvSpPr/>
            <p:nvPr/>
          </p:nvSpPr>
          <p:spPr>
            <a:xfrm>
              <a:off x="1245960" y="3195720"/>
              <a:ext cx="39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23"/>
            <p:cNvSpPr/>
            <p:nvPr/>
          </p:nvSpPr>
          <p:spPr>
            <a:xfrm>
              <a:off x="2916000" y="3195720"/>
              <a:ext cx="578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24"/>
            <p:cNvSpPr/>
            <p:nvPr/>
          </p:nvSpPr>
          <p:spPr>
            <a:xfrm>
              <a:off x="5173200" y="3195720"/>
              <a:ext cx="61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25"/>
            <p:cNvSpPr/>
            <p:nvPr/>
          </p:nvSpPr>
          <p:spPr>
            <a:xfrm>
              <a:off x="7503840" y="3195720"/>
              <a:ext cx="61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26"/>
          <p:cNvSpPr/>
          <p:nvPr/>
        </p:nvSpPr>
        <p:spPr>
          <a:xfrm>
            <a:off x="806760" y="319572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7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27"/>
          <p:cNvSpPr/>
          <p:nvPr/>
        </p:nvSpPr>
        <p:spPr>
          <a:xfrm>
            <a:off x="1928880" y="319572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9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28"/>
          <p:cNvSpPr/>
          <p:nvPr/>
        </p:nvSpPr>
        <p:spPr>
          <a:xfrm>
            <a:off x="239256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29"/>
          <p:cNvSpPr/>
          <p:nvPr/>
        </p:nvSpPr>
        <p:spPr>
          <a:xfrm>
            <a:off x="352908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0"/>
          <p:cNvSpPr/>
          <p:nvPr/>
        </p:nvSpPr>
        <p:spPr>
          <a:xfrm>
            <a:off x="410544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1"/>
          <p:cNvSpPr/>
          <p:nvPr/>
        </p:nvSpPr>
        <p:spPr>
          <a:xfrm>
            <a:off x="466740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32"/>
          <p:cNvSpPr/>
          <p:nvPr/>
        </p:nvSpPr>
        <p:spPr>
          <a:xfrm>
            <a:off x="577548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3"/>
          <p:cNvSpPr/>
          <p:nvPr/>
        </p:nvSpPr>
        <p:spPr>
          <a:xfrm>
            <a:off x="636588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7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34"/>
          <p:cNvSpPr/>
          <p:nvPr/>
        </p:nvSpPr>
        <p:spPr>
          <a:xfrm>
            <a:off x="691344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35"/>
          <p:cNvSpPr/>
          <p:nvPr/>
        </p:nvSpPr>
        <p:spPr>
          <a:xfrm>
            <a:off x="808056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36"/>
          <p:cNvGrpSpPr/>
          <p:nvPr/>
        </p:nvGrpSpPr>
        <p:grpSpPr>
          <a:xfrm>
            <a:off x="561960" y="1251000"/>
            <a:ext cx="3217680" cy="958680"/>
            <a:chOff x="561960" y="1251000"/>
            <a:chExt cx="3217680" cy="958680"/>
          </a:xfrm>
        </p:grpSpPr>
        <p:pic>
          <p:nvPicPr>
            <p:cNvPr id="1058" name="Picture 37" descr="虫子-01"/>
            <p:cNvPicPr/>
            <p:nvPr/>
          </p:nvPicPr>
          <p:blipFill>
            <a:blip r:embed="rId1"/>
            <a:stretch/>
          </p:blipFill>
          <p:spPr>
            <a:xfrm>
              <a:off x="561960" y="125100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Rectangle 38"/>
            <p:cNvSpPr/>
            <p:nvPr/>
          </p:nvSpPr>
          <p:spPr>
            <a:xfrm>
              <a:off x="861840" y="143208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内的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4"/>
          <p:cNvGrpSpPr/>
          <p:nvPr/>
        </p:nvGrpSpPr>
        <p:grpSpPr>
          <a:xfrm>
            <a:off x="1187280" y="1603440"/>
            <a:ext cx="6840360" cy="1771200"/>
            <a:chOff x="1187280" y="1603440"/>
            <a:chExt cx="6840360" cy="1771200"/>
          </a:xfrm>
        </p:grpSpPr>
        <p:pic>
          <p:nvPicPr>
            <p:cNvPr id="1061" name="Picture 5" descr="圆珠红"/>
            <p:cNvPicPr/>
            <p:nvPr/>
          </p:nvPicPr>
          <p:blipFill>
            <a:blip r:embed="rId1"/>
            <a:srcRect l="1907" t="0" r="0" b="0"/>
            <a:stretch/>
          </p:blipFill>
          <p:spPr>
            <a:xfrm>
              <a:off x="1541520" y="1603440"/>
              <a:ext cx="618300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Freeform 6"/>
            <p:cNvSpPr/>
            <p:nvPr/>
          </p:nvSpPr>
          <p:spPr>
            <a:xfrm>
              <a:off x="7514640" y="3047760"/>
              <a:ext cx="513000" cy="326880"/>
            </a:xfrm>
            <a:custGeom>
              <a:avLst/>
              <a:gdLst/>
              <a:ahLst/>
              <a:rect l="l" t="t" r="r" b="b"/>
              <a:pathLst>
                <a:path w="454" h="181">
                  <a:moveTo>
                    <a:pt x="0" y="0"/>
                  </a:moveTo>
                  <a:cubicBezTo>
                    <a:pt x="23" y="42"/>
                    <a:pt x="46" y="84"/>
                    <a:pt x="91" y="91"/>
                  </a:cubicBezTo>
                  <a:cubicBezTo>
                    <a:pt x="136" y="98"/>
                    <a:pt x="212" y="30"/>
                    <a:pt x="272" y="45"/>
                  </a:cubicBezTo>
                  <a:cubicBezTo>
                    <a:pt x="332" y="60"/>
                    <a:pt x="393" y="120"/>
                    <a:pt x="454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7"/>
            <p:cNvSpPr/>
            <p:nvPr/>
          </p:nvSpPr>
          <p:spPr>
            <a:xfrm>
              <a:off x="1187280" y="2610000"/>
              <a:ext cx="455760" cy="174960"/>
            </a:xfrm>
            <a:custGeom>
              <a:avLst/>
              <a:gdLst/>
              <a:ahLst/>
              <a:rect l="l" t="t" r="r" b="b"/>
              <a:pathLst>
                <a:path w="362" h="97">
                  <a:moveTo>
                    <a:pt x="362" y="0"/>
                  </a:moveTo>
                  <a:cubicBezTo>
                    <a:pt x="316" y="41"/>
                    <a:pt x="271" y="83"/>
                    <a:pt x="226" y="90"/>
                  </a:cubicBezTo>
                  <a:cubicBezTo>
                    <a:pt x="181" y="97"/>
                    <a:pt x="128" y="45"/>
                    <a:pt x="90" y="45"/>
                  </a:cubicBezTo>
                  <a:cubicBezTo>
                    <a:pt x="52" y="45"/>
                    <a:pt x="26" y="67"/>
                    <a:pt x="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8"/>
          <p:cNvSpPr/>
          <p:nvPr/>
        </p:nvSpPr>
        <p:spPr>
          <a:xfrm>
            <a:off x="1337760" y="123840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9"/>
          <p:cNvSpPr/>
          <p:nvPr/>
        </p:nvSpPr>
        <p:spPr>
          <a:xfrm>
            <a:off x="1474920" y="4549680"/>
            <a:ext cx="55450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把第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4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珠子涂上红色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0" descr="圆珠红"/>
          <p:cNvPicPr/>
          <p:nvPr/>
        </p:nvPicPr>
        <p:blipFill>
          <a:blip r:embed="rId2"/>
          <a:stretch/>
        </p:blipFill>
        <p:spPr>
          <a:xfrm rot="21111000">
            <a:off x="5578560" y="1700280"/>
            <a:ext cx="431640" cy="285840"/>
          </a:xfrm>
          <a:prstGeom prst="rect">
            <a:avLst/>
          </a:prstGeom>
          <a:ln w="0">
            <a:noFill/>
          </a:ln>
        </p:spPr>
      </p:pic>
      <p:grpSp>
        <p:nvGrpSpPr>
          <p:cNvPr id="1067" name="Group 11"/>
          <p:cNvGrpSpPr/>
          <p:nvPr/>
        </p:nvGrpSpPr>
        <p:grpSpPr>
          <a:xfrm>
            <a:off x="1476360" y="3573360"/>
            <a:ext cx="6481800" cy="705600"/>
            <a:chOff x="1476360" y="3573360"/>
            <a:chExt cx="6481800" cy="705600"/>
          </a:xfrm>
        </p:grpSpPr>
        <p:sp>
          <p:nvSpPr>
            <p:cNvPr id="1068" name="Rectangle 12"/>
            <p:cNvSpPr/>
            <p:nvPr/>
          </p:nvSpPr>
          <p:spPr>
            <a:xfrm>
              <a:off x="1476360" y="3573360"/>
              <a:ext cx="648180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从左数起，    是第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____</a:t>
              </a: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珠子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Picture 13" descr="圆珠红"/>
            <p:cNvPicPr/>
            <p:nvPr/>
          </p:nvPicPr>
          <p:blipFill>
            <a:blip r:embed="rId3"/>
            <a:stretch/>
          </p:blipFill>
          <p:spPr>
            <a:xfrm rot="19492800">
              <a:off x="3636720" y="3848040"/>
              <a:ext cx="539640" cy="3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Rectangle 14"/>
          <p:cNvSpPr/>
          <p:nvPr/>
        </p:nvSpPr>
        <p:spPr>
          <a:xfrm>
            <a:off x="5003640" y="3500280"/>
            <a:ext cx="936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4"/>
          <p:cNvSpPr/>
          <p:nvPr/>
        </p:nvSpPr>
        <p:spPr>
          <a:xfrm>
            <a:off x="1173600" y="2351160"/>
            <a:ext cx="635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5"/>
          <p:cNvGrpSpPr/>
          <p:nvPr/>
        </p:nvGrpSpPr>
        <p:grpSpPr>
          <a:xfrm>
            <a:off x="2746440" y="2685960"/>
            <a:ext cx="1537920" cy="714240"/>
            <a:chOff x="2746440" y="2685960"/>
            <a:chExt cx="1537920" cy="714240"/>
          </a:xfrm>
        </p:grpSpPr>
        <p:sp>
          <p:nvSpPr>
            <p:cNvPr id="1073" name="AutoShape 6"/>
            <p:cNvSpPr/>
            <p:nvPr/>
          </p:nvSpPr>
          <p:spPr>
            <a:xfrm>
              <a:off x="2746440" y="2685960"/>
              <a:ext cx="1537920" cy="714240"/>
            </a:xfrm>
            <a:prstGeom prst="wedgeEllipseCallout">
              <a:avLst>
                <a:gd name="adj1" fmla="val -47796"/>
                <a:gd name="adj2" fmla="val 696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7"/>
            <p:cNvSpPr/>
            <p:nvPr/>
          </p:nvSpPr>
          <p:spPr>
            <a:xfrm>
              <a:off x="2966400" y="2695320"/>
              <a:ext cx="12196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+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8"/>
          <p:cNvGrpSpPr/>
          <p:nvPr/>
        </p:nvGrpSpPr>
        <p:grpSpPr>
          <a:xfrm>
            <a:off x="5483160" y="2759040"/>
            <a:ext cx="1008000" cy="669600"/>
            <a:chOff x="5483160" y="2759040"/>
            <a:chExt cx="1008000" cy="669600"/>
          </a:xfrm>
        </p:grpSpPr>
        <p:sp>
          <p:nvSpPr>
            <p:cNvPr id="1076" name="AutoShape 9"/>
            <p:cNvSpPr/>
            <p:nvPr/>
          </p:nvSpPr>
          <p:spPr>
            <a:xfrm>
              <a:off x="5483160" y="2781000"/>
              <a:ext cx="1008000" cy="647640"/>
            </a:xfrm>
            <a:prstGeom prst="wedgeEllipseCallout">
              <a:avLst>
                <a:gd name="adj1" fmla="val 55356"/>
                <a:gd name="adj2" fmla="val 830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"/>
            <p:cNvSpPr/>
            <p:nvPr/>
          </p:nvSpPr>
          <p:spPr>
            <a:xfrm>
              <a:off x="5684760" y="2759040"/>
              <a:ext cx="590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8" name="Picture 11" descr="P-116-2"/>
          <p:cNvPicPr/>
          <p:nvPr/>
        </p:nvPicPr>
        <p:blipFill>
          <a:blip r:embed="rId1"/>
          <a:stretch/>
        </p:blipFill>
        <p:spPr>
          <a:xfrm>
            <a:off x="5927760" y="3724200"/>
            <a:ext cx="1644480" cy="17636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2" descr="P-116"/>
          <p:cNvPicPr/>
          <p:nvPr/>
        </p:nvPicPr>
        <p:blipFill>
          <a:blip r:embed="rId2"/>
          <a:stretch/>
        </p:blipFill>
        <p:spPr>
          <a:xfrm>
            <a:off x="1811160" y="3616200"/>
            <a:ext cx="1805040" cy="1854360"/>
          </a:xfrm>
          <a:prstGeom prst="rect">
            <a:avLst/>
          </a:prstGeom>
          <a:ln w="0">
            <a:noFill/>
          </a:ln>
        </p:spPr>
      </p:pic>
      <p:grpSp>
        <p:nvGrpSpPr>
          <p:cNvPr id="1080" name="Group 13"/>
          <p:cNvGrpSpPr/>
          <p:nvPr/>
        </p:nvGrpSpPr>
        <p:grpSpPr>
          <a:xfrm>
            <a:off x="849240" y="1197000"/>
            <a:ext cx="3435120" cy="973080"/>
            <a:chOff x="849240" y="1197000"/>
            <a:chExt cx="3435120" cy="973080"/>
          </a:xfrm>
        </p:grpSpPr>
        <p:pic>
          <p:nvPicPr>
            <p:cNvPr id="1081" name="Picture 14" descr="虫子-01"/>
            <p:cNvPicPr/>
            <p:nvPr/>
          </p:nvPicPr>
          <p:blipFill>
            <a:blip r:embed="rId3"/>
            <a:stretch/>
          </p:blipFill>
          <p:spPr>
            <a:xfrm>
              <a:off x="849240" y="1197000"/>
              <a:ext cx="34351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Rectangle 15"/>
            <p:cNvSpPr/>
            <p:nvPr/>
          </p:nvSpPr>
          <p:spPr>
            <a:xfrm>
              <a:off x="975960" y="1377720"/>
              <a:ext cx="25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内的加法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3" name="Picture 16" descr="虫子-01"/>
          <p:cNvPicPr/>
          <p:nvPr/>
        </p:nvPicPr>
        <p:blipFill>
          <a:blip r:embed="rId4"/>
          <a:stretch/>
        </p:blipFill>
        <p:spPr>
          <a:xfrm>
            <a:off x="4356000" y="1197000"/>
            <a:ext cx="3672000" cy="973080"/>
          </a:xfrm>
          <a:prstGeom prst="rect">
            <a:avLst/>
          </a:prstGeom>
          <a:ln w="0">
            <a:noFill/>
          </a:ln>
        </p:spPr>
      </p:pic>
      <p:sp>
        <p:nvSpPr>
          <p:cNvPr id="1084" name="Rectangle 17"/>
          <p:cNvSpPr/>
          <p:nvPr/>
        </p:nvSpPr>
        <p:spPr>
          <a:xfrm>
            <a:off x="5146560" y="13780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内的加减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4"/>
          <p:cNvSpPr/>
          <p:nvPr/>
        </p:nvSpPr>
        <p:spPr>
          <a:xfrm>
            <a:off x="857880" y="1662120"/>
            <a:ext cx="6030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1832040" y="4324320"/>
            <a:ext cx="29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正方体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"/>
          <p:cNvSpPr/>
          <p:nvPr/>
        </p:nvSpPr>
        <p:spPr>
          <a:xfrm>
            <a:off x="5148360" y="432432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圆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7"/>
          <p:cNvSpPr/>
          <p:nvPr/>
        </p:nvSpPr>
        <p:spPr>
          <a:xfrm>
            <a:off x="1832040" y="5108400"/>
            <a:ext cx="302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长方体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5148360" y="5108400"/>
            <a:ext cx="24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球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9" descr="a-05 拷贝"/>
          <p:cNvPicPr/>
          <p:nvPr/>
        </p:nvPicPr>
        <p:blipFill>
          <a:blip r:embed="rId1"/>
          <a:stretch/>
        </p:blipFill>
        <p:spPr>
          <a:xfrm>
            <a:off x="1403280" y="1884240"/>
            <a:ext cx="584280" cy="1224000"/>
          </a:xfrm>
          <a:prstGeom prst="rect">
            <a:avLst/>
          </a:prstGeom>
          <a:ln w="0">
            <a:noFill/>
          </a:ln>
        </p:spPr>
      </p:pic>
      <p:sp>
        <p:nvSpPr>
          <p:cNvPr id="1091" name="AutoShape 10"/>
          <p:cNvSpPr/>
          <p:nvPr/>
        </p:nvSpPr>
        <p:spPr>
          <a:xfrm>
            <a:off x="1763640" y="3324240"/>
            <a:ext cx="1152720" cy="431640"/>
          </a:xfrm>
          <a:prstGeom prst="cube">
            <a:avLst>
              <a:gd name="adj" fmla="val 50472"/>
            </a:avLst>
          </a:prstGeom>
          <a:solidFill>
            <a:srgbClr val="ec76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11"/>
          <p:cNvSpPr/>
          <p:nvPr/>
        </p:nvSpPr>
        <p:spPr>
          <a:xfrm>
            <a:off x="5364000" y="2100240"/>
            <a:ext cx="865440" cy="86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>
                  <a:alpha val="50196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12"/>
          <p:cNvSpPr/>
          <p:nvPr/>
        </p:nvSpPr>
        <p:spPr>
          <a:xfrm>
            <a:off x="3276720" y="3251160"/>
            <a:ext cx="1008000" cy="720720"/>
          </a:xfrm>
          <a:prstGeom prst="can">
            <a:avLst>
              <a:gd name="adj" fmla="val 35023"/>
            </a:avLst>
          </a:prstGeom>
          <a:gradFill rotWithShape="0">
            <a:gsLst>
              <a:gs pos="0">
                <a:srgbClr val="ffffff"/>
              </a:gs>
              <a:gs pos="100000">
                <a:srgbClr val="ffff00">
                  <a:alpha val="50196"/>
                </a:srgbClr>
              </a:gs>
            </a:gsLst>
            <a:lin ang="27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13"/>
          <p:cNvSpPr/>
          <p:nvPr/>
        </p:nvSpPr>
        <p:spPr>
          <a:xfrm>
            <a:off x="4530600" y="1844640"/>
            <a:ext cx="617760" cy="2016000"/>
          </a:xfrm>
          <a:prstGeom prst="cube">
            <a:avLst>
              <a:gd name="adj" fmla="val 22620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00">
                  <a:alpha val="50196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14"/>
          <p:cNvSpPr/>
          <p:nvPr/>
        </p:nvSpPr>
        <p:spPr>
          <a:xfrm>
            <a:off x="5364000" y="3252960"/>
            <a:ext cx="1008360" cy="639720"/>
          </a:xfrm>
          <a:prstGeom prst="cube">
            <a:avLst>
              <a:gd name="adj" fmla="val 50472"/>
            </a:avLst>
          </a:prstGeom>
          <a:gradFill rotWithShape="0">
            <a:gsLst>
              <a:gs pos="0">
                <a:srgbClr val="ffffff"/>
              </a:gs>
              <a:gs pos="100000">
                <a:srgbClr val="ffccff">
                  <a:alpha val="69019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5"/>
          <p:cNvSpPr/>
          <p:nvPr/>
        </p:nvSpPr>
        <p:spPr>
          <a:xfrm>
            <a:off x="3376800" y="430056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16"/>
          <p:cNvSpPr/>
          <p:nvPr/>
        </p:nvSpPr>
        <p:spPr>
          <a:xfrm>
            <a:off x="2771640" y="256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00">
                  <a:alpha val="40000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7"/>
          <p:cNvSpPr/>
          <p:nvPr/>
        </p:nvSpPr>
        <p:spPr>
          <a:xfrm>
            <a:off x="3376800" y="508644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8"/>
          <p:cNvSpPr/>
          <p:nvPr/>
        </p:nvSpPr>
        <p:spPr>
          <a:xfrm>
            <a:off x="6315120" y="430056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9"/>
          <p:cNvSpPr/>
          <p:nvPr/>
        </p:nvSpPr>
        <p:spPr>
          <a:xfrm>
            <a:off x="5954760" y="508644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20"/>
          <p:cNvSpPr/>
          <p:nvPr/>
        </p:nvSpPr>
        <p:spPr>
          <a:xfrm>
            <a:off x="1908000" y="1862280"/>
            <a:ext cx="885960" cy="88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21"/>
          <p:cNvSpPr/>
          <p:nvPr/>
        </p:nvSpPr>
        <p:spPr>
          <a:xfrm>
            <a:off x="3348000" y="1947960"/>
            <a:ext cx="657360" cy="65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2"/>
          <p:cNvSpPr/>
          <p:nvPr/>
        </p:nvSpPr>
        <p:spPr>
          <a:xfrm>
            <a:off x="3995640" y="2509920"/>
            <a:ext cx="414360" cy="41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23"/>
          <p:cNvSpPr/>
          <p:nvPr/>
        </p:nvSpPr>
        <p:spPr>
          <a:xfrm>
            <a:off x="6516720" y="2201760"/>
            <a:ext cx="1201680" cy="1201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24"/>
          <p:cNvGrpSpPr/>
          <p:nvPr/>
        </p:nvGrpSpPr>
        <p:grpSpPr>
          <a:xfrm>
            <a:off x="561960" y="692280"/>
            <a:ext cx="3217680" cy="958680"/>
            <a:chOff x="561960" y="692280"/>
            <a:chExt cx="3217680" cy="958680"/>
          </a:xfrm>
        </p:grpSpPr>
        <p:pic>
          <p:nvPicPr>
            <p:cNvPr id="1106" name="Picture 25" descr="虫子-01"/>
            <p:cNvPicPr/>
            <p:nvPr/>
          </p:nvPicPr>
          <p:blipFill>
            <a:blip r:embed="rId2"/>
            <a:stretch/>
          </p:blipFill>
          <p:spPr>
            <a:xfrm>
              <a:off x="561960" y="69228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Rectangle 26"/>
            <p:cNvSpPr/>
            <p:nvPr/>
          </p:nvSpPr>
          <p:spPr>
            <a:xfrm>
              <a:off x="765000" y="87336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 识 图 形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4"/>
          <p:cNvSpPr/>
          <p:nvPr/>
        </p:nvSpPr>
        <p:spPr>
          <a:xfrm>
            <a:off x="797400" y="1857240"/>
            <a:ext cx="635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5"/>
          <p:cNvGrpSpPr/>
          <p:nvPr/>
        </p:nvGrpSpPr>
        <p:grpSpPr>
          <a:xfrm>
            <a:off x="971640" y="4719600"/>
            <a:ext cx="1511280" cy="581040"/>
            <a:chOff x="971640" y="4719600"/>
            <a:chExt cx="1511280" cy="581040"/>
          </a:xfrm>
        </p:grpSpPr>
        <p:sp>
          <p:nvSpPr>
            <p:cNvPr id="1110" name="Rectangle 6"/>
            <p:cNvSpPr/>
            <p:nvPr/>
          </p:nvSpPr>
          <p:spPr>
            <a:xfrm>
              <a:off x="971640" y="4724280"/>
              <a:ext cx="1511280" cy="5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7"/>
            <p:cNvSpPr/>
            <p:nvPr/>
          </p:nvSpPr>
          <p:spPr>
            <a:xfrm>
              <a:off x="1650600" y="4719600"/>
              <a:ext cx="38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Group 8"/>
          <p:cNvGrpSpPr/>
          <p:nvPr/>
        </p:nvGrpSpPr>
        <p:grpSpPr>
          <a:xfrm>
            <a:off x="2843280" y="4719600"/>
            <a:ext cx="1511280" cy="581040"/>
            <a:chOff x="2843280" y="4719600"/>
            <a:chExt cx="1511280" cy="581040"/>
          </a:xfrm>
        </p:grpSpPr>
        <p:sp>
          <p:nvSpPr>
            <p:cNvPr id="1113" name="Rectangle 9"/>
            <p:cNvSpPr/>
            <p:nvPr/>
          </p:nvSpPr>
          <p:spPr>
            <a:xfrm>
              <a:off x="2843280" y="4724280"/>
              <a:ext cx="1511280" cy="5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0"/>
            <p:cNvSpPr/>
            <p:nvPr/>
          </p:nvSpPr>
          <p:spPr>
            <a:xfrm>
              <a:off x="3446280" y="4719600"/>
              <a:ext cx="38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en-US" sz="3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Group 11"/>
          <p:cNvGrpSpPr/>
          <p:nvPr/>
        </p:nvGrpSpPr>
        <p:grpSpPr>
          <a:xfrm>
            <a:off x="4716360" y="4719600"/>
            <a:ext cx="1511280" cy="581040"/>
            <a:chOff x="4716360" y="4719600"/>
            <a:chExt cx="1511280" cy="581040"/>
          </a:xfrm>
        </p:grpSpPr>
        <p:sp>
          <p:nvSpPr>
            <p:cNvPr id="1116" name="Rectangle 12"/>
            <p:cNvSpPr/>
            <p:nvPr/>
          </p:nvSpPr>
          <p:spPr>
            <a:xfrm>
              <a:off x="4716360" y="4724280"/>
              <a:ext cx="1511280" cy="5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3"/>
            <p:cNvSpPr/>
            <p:nvPr/>
          </p:nvSpPr>
          <p:spPr>
            <a:xfrm>
              <a:off x="5395320" y="4719600"/>
              <a:ext cx="38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14"/>
          <p:cNvGrpSpPr/>
          <p:nvPr/>
        </p:nvGrpSpPr>
        <p:grpSpPr>
          <a:xfrm>
            <a:off x="6961320" y="4719600"/>
            <a:ext cx="1511280" cy="581040"/>
            <a:chOff x="6961320" y="4719600"/>
            <a:chExt cx="1511280" cy="581040"/>
          </a:xfrm>
        </p:grpSpPr>
        <p:sp>
          <p:nvSpPr>
            <p:cNvPr id="1119" name="Rectangle 15"/>
            <p:cNvSpPr/>
            <p:nvPr/>
          </p:nvSpPr>
          <p:spPr>
            <a:xfrm>
              <a:off x="6961320" y="4724280"/>
              <a:ext cx="1511280" cy="5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6"/>
            <p:cNvSpPr/>
            <p:nvPr/>
          </p:nvSpPr>
          <p:spPr>
            <a:xfrm>
              <a:off x="7640280" y="4719600"/>
              <a:ext cx="38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Rectangle 17"/>
          <p:cNvSpPr/>
          <p:nvPr/>
        </p:nvSpPr>
        <p:spPr>
          <a:xfrm>
            <a:off x="1239840" y="472428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8"/>
          <p:cNvSpPr/>
          <p:nvPr/>
        </p:nvSpPr>
        <p:spPr>
          <a:xfrm>
            <a:off x="185580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9"/>
          <p:cNvSpPr/>
          <p:nvPr/>
        </p:nvSpPr>
        <p:spPr>
          <a:xfrm>
            <a:off x="3023640" y="472428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0"/>
          <p:cNvSpPr/>
          <p:nvPr/>
        </p:nvSpPr>
        <p:spPr>
          <a:xfrm>
            <a:off x="365904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4966920" y="472428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9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2"/>
          <p:cNvSpPr/>
          <p:nvPr/>
        </p:nvSpPr>
        <p:spPr>
          <a:xfrm>
            <a:off x="560088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3"/>
          <p:cNvSpPr/>
          <p:nvPr/>
        </p:nvSpPr>
        <p:spPr>
          <a:xfrm>
            <a:off x="709596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4"/>
          <p:cNvSpPr/>
          <p:nvPr/>
        </p:nvSpPr>
        <p:spPr>
          <a:xfrm>
            <a:off x="783900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Group 25"/>
          <p:cNvGrpSpPr/>
          <p:nvPr/>
        </p:nvGrpSpPr>
        <p:grpSpPr>
          <a:xfrm>
            <a:off x="714240" y="714240"/>
            <a:ext cx="3217680" cy="958680"/>
            <a:chOff x="714240" y="714240"/>
            <a:chExt cx="3217680" cy="958680"/>
          </a:xfrm>
        </p:grpSpPr>
        <p:pic>
          <p:nvPicPr>
            <p:cNvPr id="1130" name="Picture 26" descr="虫子-01"/>
            <p:cNvPicPr/>
            <p:nvPr/>
          </p:nvPicPr>
          <p:blipFill>
            <a:blip r:embed="rId1"/>
            <a:stretch/>
          </p:blipFill>
          <p:spPr>
            <a:xfrm>
              <a:off x="714240" y="71424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Rectangle 27"/>
            <p:cNvSpPr/>
            <p:nvPr/>
          </p:nvSpPr>
          <p:spPr>
            <a:xfrm>
              <a:off x="1014120" y="89532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 识 钟 表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2" name="Picture 33" descr=""/>
          <p:cNvPicPr/>
          <p:nvPr/>
        </p:nvPicPr>
        <p:blipFill>
          <a:blip r:embed="rId2"/>
          <a:stretch/>
        </p:blipFill>
        <p:spPr>
          <a:xfrm>
            <a:off x="642960" y="2571840"/>
            <a:ext cx="80168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3:25:06Z</dcterms:created>
  <dc:creator/>
  <dc:description/>
  <dc:language>en-US</dc:language>
  <cp:lastModifiedBy>万润仪器贸易公司</cp:lastModifiedBy>
  <dcterms:modified xsi:type="dcterms:W3CDTF">2020-08-18T09:53:59Z</dcterms:modified>
  <cp:revision>1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